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4A4-1342-4C08-9DCA-E8E38F85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533-8286-41A7-8006-65C1AA51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190-640D-4ADA-A492-78427C62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6AA-0363-4D6C-A8C4-568F9233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0EF-45D1-4376-B270-4B1E907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A3D-E493-4306-BB9A-C9905F04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246-45A6-43C1-A977-B301511F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11B-8A90-42C8-A25F-326C4F1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FA0-E41C-4287-AE1E-9172F510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D3B-E15C-4EEF-883D-8B17152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FA1-DC7F-41EA-A47D-F23DFF5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216-7C34-46E8-A435-70B96F8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0D7E-22E8-44A9-BB2A-03E4EB01F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4869000"/>
            <a:ext cx="7761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рок алгебры в дистанционной форме.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64000" y="62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я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именение различных способов для разложения на мн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869000"/>
            <a:ext cx="7761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рок алгебры в дистанционной форме.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3645000"/>
            <a:ext cx="727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В воскресенье был День космонавтики.</a:t>
            </a:r>
            <a:br>
              <a:rPr sz="3000"/>
            </a:b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Каких космонавтов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250920"/>
            <a:ext cx="78487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58920" y="40464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Применение различных способов для разложения на множит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8964720" cy="362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5445000"/>
            <a:ext cx="23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5(2а + 5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5514840"/>
            <a:ext cx="28800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(a+b)–2(a+b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=(a+b)(a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551664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(x-5)(x+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093000"/>
            <a:ext cx="20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5a(a –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6093000"/>
            <a:ext cx="22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x + 4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80360" y="836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Записать 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69440" cy="408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40464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Применение различных способов для разложения на множит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ложить на множи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7560" y="1628640"/>
            <a:ext cx="2098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1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1628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(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4)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1628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(х – 2)(х + 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705816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413000"/>
            <a:ext cx="72723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раздел 38, стр.186,187. Применение различных способов для разложения на множител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№ 939, прислать фотограф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чный чат скайпа сегодня до 18 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88203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5877000"/>
            <a:ext cx="5781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Следующее занятие 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5.04.20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882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0T15:26:07Z</dcterms:created>
  <dc:creator>Севастьянова Гузель Фатыховна</dc:creator>
  <dc:description/>
  <dc:language>en-US</dc:language>
  <cp:lastModifiedBy>Севастьянова Гузель Фатыховна</cp:lastModifiedBy>
  <dcterms:modified xsi:type="dcterms:W3CDTF">2020-04-13T07:43:43Z</dcterms:modified>
  <cp:revision>65</cp:revision>
  <dc:subject/>
  <dc:title>Слайд 1</dc:title>
</cp:coreProperties>
</file>